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96F-8808-437F-B64A-6C95DE52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374-9A2F-43B2-A1BE-42108D28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1CB-C491-40C4-9B2D-F885B3DB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F06-A725-4EBC-9B69-491B4D11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0726-C07F-4B0A-88E5-4D8EF464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217-3070-4C38-B659-47DCEEDB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2BC-DE00-43C9-A56E-73ACF15F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786-3897-4016-B360-A627D0B9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A5D-F637-49F9-A58D-18263824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518-323A-4FE8-84D2-71DFFF08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667-1F6E-4C00-9F23-29F22FF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B915-864C-476F-8DA9-E9C77D12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68B-730E-4E91-B79F-CCECB0C9F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= number of segments in boots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communicator’s mpoo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 m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3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_common_sm_file_header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a_coll_sm_bootstrap_header_extension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array of Bb uint32_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 of the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sm_bootstrap_comm_setup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pool data segment (obvious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 m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63600" y="1905120"/>
            <a:ext cx="6629400" cy="4419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7120" y="2133720"/>
            <a:ext cx="556236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mmon_sm_file_header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5320" y="3048120"/>
            <a:ext cx="556272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a_coll_sm_bootstrap_header_extension_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038480"/>
            <a:ext cx="304776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 uint32_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 flipH="1" flipV="1" rot="10800000">
            <a:off x="1794960" y="3466800"/>
            <a:ext cx="1253520" cy="800640"/>
          </a:xfrm>
          <a:prstGeom prst="bentConnector3">
            <a:avLst>
              <a:gd name="adj1" fmla="val -1824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790640" y="4648320"/>
            <a:ext cx="5562720" cy="1523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 mca_coll_sm_bootstrap_comm_setup_t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1" idx="1"/>
            <a:endCxn id="54" idx="1"/>
          </p:cNvCxnSpPr>
          <p:nvPr/>
        </p:nvCxnSpPr>
        <p:spPr>
          <a:xfrm flipV="1" rot="10800000">
            <a:off x="1789920" y="3466080"/>
            <a:ext cx="5400" cy="1943640"/>
          </a:xfrm>
          <a:prstGeom prst="bentConnector3">
            <a:avLst>
              <a:gd name="adj1" fmla="val 49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82880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526716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5562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58672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base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8268840" y="2590920"/>
            <a:ext cx="87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5" idx="2"/>
            <a:endCxn id="66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5" idx="2"/>
            <a:endCxn id="72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base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base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8" idx="1"/>
            <a:endCxn id="82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7" idx="1"/>
            <a:endCxn id="81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2" idx="1"/>
            <a:endCxn id="80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pool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pool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6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endCxn id="117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23" name="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32" name="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19:51:41Z</dcterms:created>
  <dc:creator>Jeffrey Squyres</dc:creator>
  <dc:description/>
  <dc:language>en-US</dc:language>
  <cp:lastModifiedBy>Jeffrey Squyres</cp:lastModifiedBy>
  <dcterms:modified xsi:type="dcterms:W3CDTF">2005-09-03T12:29:03Z</dcterms:modified>
  <cp:revision>29</cp:revision>
  <dc:subject/>
  <dc:title>sm coll component data structures</dc:title>
</cp:coreProperties>
</file>