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880" y="420228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840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7760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888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7760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87D-76A9-4C60-BA59-824EBBEC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0C8-CFC1-4ED6-BDCD-1D7BDF57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707-0038-4FF5-ACA1-3D1E5844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013-3A5D-45AF-A29F-DF30FB5A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120-E9CE-45E1-843D-C2A089B7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7600" y="444240"/>
            <a:ext cx="88902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06C-240B-4762-B8E2-D7625672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FF4-BCC5-4773-8798-506CAD3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840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B8F-B9D7-4410-8E40-64084C4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0EE-50AD-4138-8321-7A04105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880" y="420228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653-C432-40C7-9326-D05C67A8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840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2EC-1389-48A3-9EFD-314DF502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760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6668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888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7760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6668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4C2-7755-4BBC-9AA9-EC9139D8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7600" y="444240"/>
            <a:ext cx="88902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840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7960" y="1407960"/>
            <a:ext cx="8864640" cy="126720"/>
            <a:chOff x="507960" y="1407960"/>
            <a:chExt cx="8864640" cy="126720"/>
          </a:xfrm>
        </p:grpSpPr>
        <p:sp>
          <p:nvSpPr>
            <p:cNvPr id="3" name=""/>
            <p:cNvSpPr/>
            <p:nvPr/>
          </p:nvSpPr>
          <p:spPr>
            <a:xfrm>
              <a:off x="507960" y="1407960"/>
              <a:ext cx="886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7960" y="1534680"/>
              <a:ext cx="886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7960" y="1407960"/>
              <a:ext cx="8864640" cy="126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5915160" y="6461280"/>
            <a:ext cx="31240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d316d"/>
                </a:solidFill>
                <a:latin typeface="Comic Sans MS"/>
              </a:rPr>
              <a:t>WG1.3 – Foundations of System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9077400" y="5759280"/>
            <a:ext cx="520560" cy="965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129520" y="446040"/>
            <a:ext cx="1274760" cy="87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584A-6F34-4805-9FFF-034BF4AC1E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93880" y="4552560"/>
            <a:ext cx="40050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mic Sans MS"/>
              </a:rPr>
              <a:t>General Meeting</a:t>
            </a:r>
            <a:r>
              <a:rPr b="1" lang="en-US" sz="2800" spc="-1" strike="noStrike">
                <a:solidFill>
                  <a:srgbClr val="1822cd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ag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ch 23-24, 2007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33800" y="923760"/>
            <a:ext cx="3124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33"/>
                </a:solidFill>
                <a:latin typeface="Futura Condensed"/>
              </a:rPr>
              <a:t>WG1.3  –  Fou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33"/>
                </a:solidFill>
                <a:latin typeface="Futura Condensed"/>
              </a:rPr>
              <a:t>of System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92320" y="2114640"/>
            <a:ext cx="1320840" cy="2476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795840" y="2208240"/>
            <a:ext cx="35449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AOB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Any other busin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Business meet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dennes/San Diego Minu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port on sponsored activ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formatics Eur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ext meet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ADT’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 baseline="30000">
                <a:solidFill>
                  <a:srgbClr val="0d316d"/>
                </a:solidFill>
                <a:latin typeface="Comic Sans MS"/>
              </a:rPr>
              <a:t>Members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y other busin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4950000"/>
            <a:ext cx="9291600" cy="0"/>
          </a:xfrm>
          <a:prstGeom prst="line">
            <a:avLst/>
          </a:prstGeom>
          <a:ln w="38160">
            <a:solidFill>
              <a:srgbClr val="0d31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ponsored activ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e574e"/>
                </a:solidFill>
                <a:latin typeface="Comic Sans MS"/>
              </a:rPr>
              <a:t>Fin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e574e"/>
                </a:solidFill>
                <a:latin typeface="Comic Sans MS"/>
              </a:rPr>
              <a:t>Ardennes/San Diego Minu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eport on sponsored activ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ADT’06: LNCS 440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n print (due April 1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ICGT’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– Ugo Montanar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FI/FLIRTS/HiFi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ll Mossakows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ALCO’0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ll Mossakows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nformatics Eur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eting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his meeting (many thanks to the organisers!)</a:t>
            </a:r>
            <a:br>
              <a:rPr sz="2000"/>
            </a:b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/33</a:t>
            </a: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 Members,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/14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Observers, 2 Young Researchers, 2 local gu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meetings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anuary 2008 (Sierra Nevada, Spai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gust 2008 (Hamilton, CA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une 2009, o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August/September with CAL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rch/April 2010 with ETAPS? o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June with 20th WAD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(Bremen ?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WADT’08 (Pisa, June 2008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Observers leave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r">
              <a:lnSpc>
                <a:spcPts val="27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mbershi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mber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ianna missed 3 consecutive meetings (+ Bangalo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hammed missed 3 consecutive meet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t, Bernd, Dusko, Peter Padawitz missed 2 consecutive meet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909720" y="4276800"/>
            <a:ext cx="8458200" cy="2295360"/>
          </a:xfrm>
          <a:prstGeom prst="wedgeEllipseCallout">
            <a:avLst>
              <a:gd name="adj1" fmla="val -28828"/>
              <a:gd name="adj2" fmla="val -805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 am back to Algeria for a new position at the Ministry of Higher Education. I tried my best to come, but it seems that it is impossible. Please forward my apologies and greetings to  the group. I hope that I will be able to come to the next meeting. Last year I have had the possibility to come but I was not able to get the vi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2640" y="3884760"/>
            <a:ext cx="4890960" cy="2295360"/>
          </a:xfrm>
          <a:prstGeom prst="wedgeEllipseCallout">
            <a:avLst>
              <a:gd name="adj1" fmla="val -13388"/>
              <a:gd name="adj2" fmla="val -805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 waited to answer to see if it was possible for me to attend to the meeting.Unfortunately, and with my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spleasure. I have to say that I cannot attend to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54360" y="4013280"/>
            <a:ext cx="6899400" cy="2295360"/>
          </a:xfrm>
          <a:prstGeom prst="wedgeEllipseCallout">
            <a:avLst>
              <a:gd name="adj1" fmla="val -40958"/>
              <a:gd name="adj2" fmla="val -8284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'm really sorry about this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As you know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is will be your 3rd consecutive absence (we are not counting Bangalore) and your membership will have to be discussed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s there anything that you would like me to say to the members during the business meet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mbershi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servers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vitation to become member?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343320" y="3460680"/>
          <a:ext cx="4954680" cy="801720"/>
        </p:xfrm>
        <a:graphic>
          <a:graphicData uri="http://schemas.openxmlformats.org/drawingml/2006/table">
            <a:tbl>
              <a:tblPr/>
              <a:tblGrid>
                <a:gridCol w="2192400"/>
                <a:gridCol w="2762280"/>
              </a:tblGrid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ladimiro Sass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rcelona, Swansea, had to cancel Arden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mbershi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servers who missed this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52600" y="3025800"/>
          <a:ext cx="4163760" cy="3468600"/>
        </p:xfrm>
        <a:graphic>
          <a:graphicData uri="http://schemas.openxmlformats.org/drawingml/2006/table">
            <a:tbl>
              <a:tblPr/>
              <a:tblGrid>
                <a:gridCol w="1942920"/>
                <a:gridCol w="560520"/>
                <a:gridCol w="1163520"/>
                <a:gridCol w="49680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ＭＳ Ｐゴシック"/>
                        </a:rPr>
                        <a:t>ís C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Ram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John Tuc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miss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n Rut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e574e"/>
                          </a:solidFill>
                          <a:latin typeface="Comic Sans MS"/>
                        </a:rPr>
                        <a:t>Nazareno Agui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e574e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e574e"/>
                          </a:solidFill>
                          <a:latin typeface="Comic Sans MS"/>
                        </a:rPr>
                        <a:t>miss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van Diacones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ila Ribe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mbershi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servers at this meeting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79560" y="3048120"/>
          <a:ext cx="3549600" cy="3454200"/>
        </p:xfrm>
        <a:graphic>
          <a:graphicData uri="http://schemas.openxmlformats.org/drawingml/2006/table">
            <a:tbl>
              <a:tblPr/>
              <a:tblGrid>
                <a:gridCol w="2130480"/>
                <a:gridCol w="709560"/>
                <a:gridCol w="7095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fania Gn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bio Gadduc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cale Le G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ura Petruc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kus Roggenb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coletta Sabad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b Wal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14:15:41Z</dcterms:created>
  <dc:creator>Antonia Lopes</dc:creator>
  <dc:description/>
  <dc:language>en-US</dc:language>
  <cp:lastModifiedBy>José Luiz Fiadeiro</cp:lastModifiedBy>
  <cp:lastPrinted>2001-04-14T09:51:07Z</cp:lastPrinted>
  <dcterms:modified xsi:type="dcterms:W3CDTF">2007-03-24T08:00:47Z</dcterms:modified>
  <cp:revision>552</cp:revision>
  <dc:subject/>
  <dc:title>Introdução</dc:title>
</cp:coreProperties>
</file>